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C8DE-3193-41DE-98F5-C1987B934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Character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About events in our l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About what we 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ination of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ased on materials students expl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facilitates research and organization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B4F4-894F-4185-B363-229CD37D6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8D1E-8E40-418B-B99D-A393C6440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BE42-BAB5-4A2B-BEAC-89B7E809F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DE5F-8735-41C9-A322-E5BFC231A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0291-83BA-4904-B368-92CDB8586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169-6EBE-44E0-9D5E-0BCACDE2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C6C-5074-47A9-B03D-733C75D8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6EA-AE0C-40C3-AF16-30A1E23B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8A3-8903-433C-BE9E-DF4E9AC3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4AED-BDEC-4425-B59B-681F4E16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C9E3-4DBA-4AF3-9061-0BAF8037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6C7F-381E-4436-A0C6-9BE05750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30DD-F019-493D-BE60-B31CA543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F905-5489-4766-9F64-C49AA471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7935-2934-42A6-B400-DDED23CD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AD18-C7F4-47FE-81AB-A57EA912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44B-4369-430D-8FFE-38883463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FF99-03BF-4F84-9BBD-6727A802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36D6-8FE2-4EF9-A736-F28D5865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EA5A-B251-46A6-9B4C-367C3B0D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517C-8B58-4D3D-97E4-50219303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CA2E-9EBE-413D-BED7-9DFF4B70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46B25-22BF-4BCD-BFAD-4C65386D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A255A-7D78-4688-B34B-BA039082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7C1ED-5126-4F90-B235-3FABDBD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7F11C-E2D9-41F9-8CFC-A8C9C0B0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79A3C-2F71-4BDB-AC04-6A49297F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841-75EE-41EB-838A-192F6014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0EB21-45F8-4CE2-9B67-DE751409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1A671-53D9-4829-BEF7-7DD1977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D1956-7506-4DB2-8DB9-82D7373D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5F800-5266-42F0-8AEB-AF057382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1C6DE-FC36-4CBF-9AF9-D7F6BBB7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55ABB-E478-4A34-A387-D9FD8567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5846A-D35E-469D-80AD-0FCB523A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1A3CA-1C8A-46C3-BB8E-0E2CB14F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636DF-64AD-478B-A2DC-1522C360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9E3BB-6D4C-4F47-AA89-0DF72C84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D8E-6609-400B-8FC4-AADD3837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3AB33-8BD8-4C01-931E-C9D98E3A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2F22A-B83E-40E9-9AE7-82655014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D8D51-3840-489E-BAAE-CC7B0520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CA359-3EC1-4AB2-8873-5C2AA84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56CF2-23A8-4A2F-A800-AC696FC0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3C4B7-D939-4F8E-9372-73E2A55D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19CC4-377A-4A25-821C-4ED42666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E8CFE-26EA-4E4F-9D7E-516FFAD9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2B422-38F4-4923-8BED-56B8C829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61573-77A4-43AB-AC6A-98191053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091-C042-40EC-82F4-92A588E4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315D0-F9AC-4D21-BB1E-41C414B7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6EC7B-99FF-4B6A-BC7E-86EA39CA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26A94-FE09-49D2-8953-D3572CDA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091DFE-7769-4C01-990F-59515549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691B0-650F-4096-81ED-7B6677BC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C51B7-F52C-4DA4-BFF2-F84673D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61066-E7AF-43C6-9876-89F13B20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8A793-B1DB-4532-8EAE-3FA21C2B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65111-AE6C-4060-B669-F4FC1F68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29C5F-C50F-452D-9D1D-06F47BC1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99A-E07C-47CC-BA5C-13DD3A93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546A6-C2C7-43F2-881B-BDDB98D4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5FF4-E855-4965-B66A-3BC89B35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9BCF8-F542-4EC3-85D5-29F4A2A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4E8ED-70B8-4E65-BA24-8F716FF6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AD1A7-D628-4DC7-BCCD-5350BBB4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7B68D-1ACB-4E80-99CE-49DD5D44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5D65F-A60B-48C3-AAC3-B58C9AB3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1068-3B17-4E5A-B7E9-F8BFA9BD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25AF0-35EA-4103-AE19-649F5C6E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ECA91-701F-4B68-91AE-44195F02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2F3-4863-4A41-99AF-FFB38E5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61A29-60A6-4C04-875B-DED21A60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D1941-A2BA-4EF1-A778-89AE0340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7ADE7-B2F2-453A-9F63-741A9E9D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C7F1D-3516-4F1D-8BE8-1B755AF4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7E46D-7A1A-41A9-82A3-9D3E337B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99BA6-0ACC-43C9-A15B-B9E1E511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1D514-32FF-4EBD-8773-33935D0D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7C4E3-7CD0-4D84-9F0B-457E3987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F4742-E178-499C-9F5A-AE02EAAA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E4CCF-AF47-4E83-8827-8DB75E4F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0D4-30AE-4A0C-B984-9A6F2DA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70D1A-AF88-4474-A2E4-7A1B7285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1DB2A-49E6-407A-A2A5-8EF7A30E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A4F41-26D8-4669-8F34-A93EBB5A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A5ECC-2E77-4E82-AD6B-1B40929D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0B856-869E-466A-BA09-FBDA8FBE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0E114-6A38-4D13-9D18-D495636D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19E16-E551-4377-B0B2-CBFFD32F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1D1CB-4B23-4B73-8BFD-AC9845FF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65995-8452-44A9-9E29-78DAAD0C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A4C67-FE16-4A57-B1DF-25A20683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4E5-2DDF-4AE9-B36C-97427C19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EE536-E8A1-41D4-9370-D52E3FF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DF91D-FC75-484A-8475-A40C9937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67502-FBA7-49C4-8131-B147591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183BC-1394-4D4E-B138-E9774728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172A9-3A39-4E08-8254-64C8801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E1E80-DFCA-427E-ADFB-5391FCA4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8A19A-B1C2-4062-B709-96B149C7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E904-B4E6-4686-AB4C-CDD20A7395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864A-7A0A-4977-A402-200EFAD35861}" type="slidenum">
              <a:rPr b="1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4F40-3BF9-4CBE-A6A1-0DF4E7B7B7D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C6A1-3872-4166-8117-E9948BA82A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B6B4-0799-4C23-95DF-73C9790C1A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0D85-FBB7-409B-A640-A4E77109D2B5}" type="slidenum">
              <a:rPr b="1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A5C5-21C4-4F2B-B3BD-BFD0C6371889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B3FE-9DBA-4375-99AC-79FD508403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ded1"/>
                </a:solidFill>
                <a:latin typeface="Tw Cen MT"/>
              </a:rPr>
              <a:t>DIGITAL STORIES &amp; MOVIEMAKER AGENDA</a:t>
            </a:r>
            <a:endParaRPr b="0" lang="en-US" sz="40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What is digital storytelling?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assroom Integration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lip Camera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Video Shoo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opyright &amp; Creative Common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reate YOUR Digital STORY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Movie Premieres Created by YOU!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3" descr="C:\Program Files\Microsoft Office\Media\CntCD1\ClipArt2\j0232096.wmf"/>
          <p:cNvPicPr/>
          <p:nvPr/>
        </p:nvPicPr>
        <p:blipFill>
          <a:blip r:embed="rId1"/>
          <a:stretch/>
        </p:blipFill>
        <p:spPr>
          <a:xfrm>
            <a:off x="5943600" y="1523880"/>
            <a:ext cx="2451240" cy="2264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assroom Integra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9f2936"/>
          </a:solidFill>
          <a:ln cap="sq" w="50760">
            <a:solidFill>
              <a:srgbClr val="9f2936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ypes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ersonal Narrat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amination of theme or eve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o Inform or Instruc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bining the art of telling stories with some mixture of digital graphics, text, recorded audio narration, video and music to present information on a specific topi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volve around a theme and often contain a particular viewpoint; stories are typically just a few minutes lo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Tw Cen MT"/>
              </a:rPr>
              <a:t>Stories Created by Teachers Can Serve: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Lesson Hoo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Way to Integrate Multimedia into the Curriculum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Way to Make Difficult Content More Understandab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Facilitate Classroom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5" descr="C:\Documents and Settings\Administrator.2SDL741\Local Settings\Temporary Internet Files\Content.IE5\N96FXHYY\MPj04395450000[1].jpg"/>
          <p:cNvPicPr/>
          <p:nvPr/>
        </p:nvPicPr>
        <p:blipFill>
          <a:blip r:embed="rId1"/>
          <a:stretch/>
        </p:blipFill>
        <p:spPr>
          <a:xfrm>
            <a:off x="4876920" y="4008600"/>
            <a:ext cx="4267080" cy="28494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Verdana"/>
              </a:rPr>
              <a:t>An Effective Learning Tool for Students</a:t>
            </a:r>
            <a:endParaRPr b="0" lang="en-US" sz="36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123720" y="167652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riting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rganization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chnology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esentation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terview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blem-Solving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ssessment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Program Files\Microsoft Office\Media\CntCD1\ClipArt3\j0239011.wmf"/>
          <p:cNvPicPr/>
          <p:nvPr/>
        </p:nvPicPr>
        <p:blipFill>
          <a:blip r:embed="rId1"/>
          <a:stretch/>
        </p:blipFill>
        <p:spPr>
          <a:xfrm>
            <a:off x="457200" y="4648320"/>
            <a:ext cx="1808280" cy="1487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Program Files\Microsoft Office\Media\CntCD1\ClipArt6\j0297243.wmf"/>
          <p:cNvPicPr/>
          <p:nvPr/>
        </p:nvPicPr>
        <p:blipFill>
          <a:blip r:embed="rId2"/>
          <a:stretch/>
        </p:blipFill>
        <p:spPr>
          <a:xfrm>
            <a:off x="533520" y="19810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Program Files\Microsoft Office\Media\CntCD1\ClipArt3\j0233962.wmf"/>
          <p:cNvPicPr/>
          <p:nvPr/>
        </p:nvPicPr>
        <p:blipFill>
          <a:blip r:embed="rId3"/>
          <a:stretch/>
        </p:blipFill>
        <p:spPr>
          <a:xfrm>
            <a:off x="6248520" y="1600200"/>
            <a:ext cx="2430360" cy="2370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C:\Program Files\Microsoft Office\Media\CntCD1\ClipArt1\j0174133.wmf"/>
          <p:cNvPicPr/>
          <p:nvPr/>
        </p:nvPicPr>
        <p:blipFill>
          <a:blip r:embed="rId4"/>
          <a:stretch/>
        </p:blipFill>
        <p:spPr>
          <a:xfrm>
            <a:off x="6858000" y="4572000"/>
            <a:ext cx="1822320" cy="18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Documents and Settings\Administrator.2SDL741\Local Settings\Temporary Internet Files\Content.IE5\N96FXHYY\MPj04393260000[1].jpg"/>
          <p:cNvPicPr/>
          <p:nvPr/>
        </p:nvPicPr>
        <p:blipFill>
          <a:blip r:embed="rId1"/>
          <a:stretch/>
        </p:blipFill>
        <p:spPr>
          <a:xfrm>
            <a:off x="4143240" y="2971800"/>
            <a:ext cx="5000760" cy="38862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Verdana"/>
              </a:rPr>
              <a:t>Student Literacy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gital Liter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lobal Liter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chnology Liter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isual Liter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Video Shoot Choices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ts of Speec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xplore the schoo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Work with a partner or sol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ct it ou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se objects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844520" y="1589040"/>
            <a:ext cx="4070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create a Sce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xplore the schoo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se yourself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se objects to represent people or ev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Content Placeholder 5"/>
          <p:cNvSpPr/>
          <p:nvPr/>
        </p:nvSpPr>
        <p:spPr>
          <a:xfrm>
            <a:off x="4876920" y="4572000"/>
            <a:ext cx="4070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 Wor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Your message to the world in 3 wor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Content Placeholder 5"/>
          <p:cNvSpPr/>
          <p:nvPr/>
        </p:nvSpPr>
        <p:spPr>
          <a:xfrm>
            <a:off x="457200" y="4484520"/>
            <a:ext cx="407052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uess Who I Am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amous people in histor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mportant people around the schoo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2:38:01Z</dcterms:created>
  <dc:creator>Administrator</dc:creator>
  <dc:description/>
  <dc:language>en-US</dc:language>
  <cp:lastModifiedBy>132jonesli</cp:lastModifiedBy>
  <dcterms:modified xsi:type="dcterms:W3CDTF">2010-06-02T16:51:12Z</dcterms:modified>
  <cp:revision>24</cp:revision>
  <dc:subject/>
  <dc:title>Photo Story Agenda</dc:title>
</cp:coreProperties>
</file>